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8.jpeg" ContentType="image/jpeg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D19-2969-480B-8064-C9B537F3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499-390E-4275-965D-5D9C7CD3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3482C-0B9B-4823-AE0A-A33A0E24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80FC5-CE42-4730-BC57-4949D543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FD5F3-453B-4EEA-B795-900A8308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62A0A-6BED-4EE9-BBE4-ADDCD420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E6415-1C41-46BE-B156-63262224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7AA70-E355-498E-8667-CF981F11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857BF-DE27-4B3D-BE38-2E09B42F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AA82C-4449-4B54-B827-07875066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FEA46-CC6A-4AC3-8A68-6B334DEF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95058-A619-400B-A812-83786C0B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87E-4202-4CBB-B6EC-9597B914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6C5A4-645D-4FCD-A0AF-0E796767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FBBCC-E229-4EC2-ACEB-FD30F039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A1D40-4650-48F7-9F91-64BB1092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76740-098E-449F-A37D-A13E96DB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53919-0D75-4683-8267-EC9AD689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42136-49D3-4911-9A29-3AFF6746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E8B18-9FF2-462B-AB33-4A4B4D82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2A1F7-E5EB-4F24-B404-A7C3E956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FF375-A53A-46A9-9451-6B9B2A38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0D0F3-B01A-4EDC-92A0-30966364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F14-79BC-4EF6-BC6F-69B3533E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362DF-F99E-49F4-B5FE-B4459EED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86C5A-A4EA-4BDB-9C44-D0D0C80D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92CA0-8CD0-4F6F-9206-FF4328A0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DB0BA-983C-4320-B26C-B6C17984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E2040-C841-421D-BCF5-964CFF5E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DE88D-62A7-4971-9F66-5C48807A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7FA81-A0EF-401A-B161-E11D357B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77494-A77A-46E1-9EBE-2FFF27A8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E87CA-9A17-4A9E-AD86-14388480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E252F-69B1-4791-99CC-54EA1638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FF5C-DC1A-4159-AB90-9500C64E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3D7B3-3AB8-4458-A925-8FFC18B7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D4102-3A44-4A8C-8F5D-0BFA4220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3D80D-FC8C-465F-9268-DC4E8B46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07C59-AC9A-4A6E-9263-D250E38D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BCC94-C399-4654-9F00-5E880071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D101B-CCCA-42E8-876A-B96CD962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39F36-6EBF-4125-B3AC-13B3D8F8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D1E28-CFBA-41FD-AA8C-84D265F2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907CE-FD56-46C9-A3E9-7CE51C11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7DEB8-D62F-4EEB-8EB7-A69B18A2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B6BD-EA3E-4ED9-9EB1-79C38683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34A11-3504-4F75-B582-3A514E9B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9068A-FEB5-41C3-ABEE-3DBEBAB2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F8D14-B39E-4251-9C1F-483403DD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16EFA-69DE-4A70-B79B-868962E9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6D505-9986-4199-87B9-DAE5C6A2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4BA30-B6C8-4A77-8E4E-3A2A2911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B781F-C6D2-41A9-9EFC-C1790CB8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4E73C-487F-4F1A-ADB6-C7EA2C1E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C3141-2870-44EE-88AD-4DC4E6CF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BCE5F-CCD5-48E5-9849-A13A0B19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837C-341F-4DF1-8549-B7CFB642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CE4AA-0727-4033-A4E7-8FDEE561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5B47E-4FE9-4595-8F39-EBF0391B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94153-093D-46D5-AB72-44CDA904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5C5D6-7B51-4A9B-AEC6-23E8ED3C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1E4C9-E418-4EDF-B62D-8F32CEB8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F7D03-B9A8-410E-B6A3-66949B4C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39647-E5B2-4251-97AE-263504AF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721DB-96C0-4B74-98BD-74D1971E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5D0E2-5362-4AE2-A76F-601EEB29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89973-924D-4DC2-94D8-8B056E55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BBA2-FA1D-44AA-9D04-A2BA9607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62B39-E3AD-4165-91A4-67038A0D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37004-C87D-4F69-B67B-9471D66A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C4E258-C9E1-43CD-B51D-2E786856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85388-62E4-4C3B-A1B5-59CCD916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D8F5F-4A60-4336-91C9-3A886196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16F58-D15E-400D-9A73-38254819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4DEED-653E-4484-A41B-A79CA83C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C8D7B-4EF5-4F8F-97EC-B07BB281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13201-0316-49A1-88FC-016873E8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140C3-0598-49F0-B09F-C9056A9D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9B3A-5C78-45C8-A5C6-2164238D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6D7B31-84E5-4EBF-96E5-239675ED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E853E-DE46-4B93-9D51-263D1A21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AC573-54A7-4D00-856A-370E8E86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9267DB-1FA6-423A-BAD1-F2663EB8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4D4EC-F481-40F5-8911-E2AF1485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76C701-CBE4-4848-826F-4B5D52DB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33916-6BA3-4EBF-8587-201EC0C2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F9C6F-B274-44E5-B5A1-EA32CB05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DE9CC-0DA9-4D51-B685-61A91F9C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239F98-40CE-4D26-9961-4866BB36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1D94-12AF-4017-88BE-84DCD17B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31314-240E-4FFE-884B-92D50915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916261-9E52-4DA6-8FE4-11CEE1E7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0F921-2109-4D9D-B4E9-0DA68C3D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7C276B-9CB2-4051-8B9B-435CB945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AC768-22FF-492B-B816-EDDCCF8F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313D1E-B1CD-4040-8DBC-1F5E3E82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F94BC6-CCAF-4144-A570-8117D68E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5E8613-6E39-4691-8B87-78D15A25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F39DA9-E5CB-4246-B180-56ED5351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77176-A013-4A1D-96D6-96B0587A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4447-BD1A-477C-ACAC-7C7C476C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CA5B37-24EB-4E3C-BC8B-57DA7304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19F96-830F-47C8-8BA7-ABCFDBDC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5DCF29-2241-48B5-AAA3-1BC352BD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00C38-6C84-4F72-9172-BA20C379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9150DF-655B-45F8-AF3F-F8D569DB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C230EE-C516-4417-B8ED-EE27B83D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A92E46-265D-481E-828E-369EE439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1CA5FF-63DC-4AB8-A7F5-CA8044C3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C878BA-972B-4DDE-B732-5A8D31CD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4CBBC7-6388-46C3-A12A-E17357D8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B2B-0D26-49CC-A60D-014910FD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E128-0EE0-4513-8C51-F6BE3865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DB35E6-88F1-4F3D-9B8A-1233C93D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D6A1A0-0395-40E9-BED7-E4B4A31F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BDD35B-71AD-4762-AB9D-DDC5D09D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E7194D-F461-4BCA-AB8D-75679838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EB85F0-B032-4FFE-BE8E-6C358723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F804E6-ADEE-4D6A-ADB6-E5D01323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C6E906-361E-40E7-80DF-3DA01D87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103AAE-FB28-4820-99BD-66F4AC3F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A26777-59E8-4DFA-8777-C70F0FCD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0982BA-7CC3-4990-9473-AEE4B8F8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626B-8E37-4767-B555-039E31C1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472AED-0783-4AB6-842B-3A2FEAAB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F8B835-C278-43D0-8E98-C1BB21F9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0F19EB-99B5-40E0-A210-8C3F98DB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7D9F76-EF9A-4A01-90D4-F8EE1FB0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86B3BB-33D9-427E-A0F7-A3E252E1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3ECB12-028E-42B6-A76D-85C339F1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02E6D-0887-4CB6-836F-2947AEC8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CF806D-5837-439B-89A6-5097FED3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0CD14D-0E23-46C5-A812-2972861D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4ED17C-F2AF-4D6F-B409-891207C3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934D-BA05-4C01-9C5D-B9EF0408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0F57A3-098B-44C7-AE7D-7FD7738F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D3F2C0-94D5-44F2-98AD-2F878D8B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ECB111-D37A-49BC-BF40-991ABF83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32EAC0-BC14-421D-A0C7-A93BDF3A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FE910B-DBCA-4FC4-9443-8A5343E0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53C9C2-5251-4CE4-9745-A12EB010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8DBD71-7D3B-4A7D-A207-28CDD79A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CFEB07-0FCF-4B18-86DD-D1795AA5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890B90-8F8A-4F7B-A8DC-9F0F9B3A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6B9245-EBE2-4195-B941-ACA54E4B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2DD5-5746-4527-A3E8-CF04B7A5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DA7A53-78B0-45FC-A4AC-B0F4CDBA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4F63D3-3AAC-4596-B50B-5CCA84DD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F75C72-8894-454A-9E6C-49EAE481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E846EB-FA6F-4148-8E9C-2D2BF793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85D119-9B60-4F4B-943C-53BBC773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07455A-7944-4738-873B-7BF599EB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37B1C6-1F04-4F3B-9D91-B674FBF1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766A0B-DAD2-434B-BABE-A29EC905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BC2678-1C1A-4CAC-B253-49FA53D9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CCC203-1BB0-437D-A98A-427886A5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57E8-57BE-4C1D-A65B-2FBF80BE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523118-5DDC-4C3D-AEF7-66433352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F44A39-3D7A-4AD1-B340-4A4B6862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BB6AB3-B762-45AA-A261-E140F560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D459B8-A338-4603-8B1E-C22DF9F6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AF1DD2-45E4-46FA-A23F-D7701448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ECE187-09C5-46B3-BE72-02CDD00C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3AAE1F-AED7-46C3-80C1-6747BD5D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858050-E2DF-4151-99D7-D080E93C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9A41C1-7139-45BC-9324-4657B0DD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CFE4B2-AA78-418D-AA55-CD1D493D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938EC-A313-4F14-A12E-644DC739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233D6D-57C4-4843-9BA0-2F024FE2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EF4AA6-E374-4B58-BC65-94BC8133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50F23F-8A22-4D9D-9AF3-3E6E9750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D6BD64-5018-4109-996A-C8CCF526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1E713F-2CB4-49A1-B1F9-832043EB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C27682-CEB2-4A99-BD04-06F03A73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BD2E70-8CF4-4A93-9274-13F6B397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BDCADB-EE1E-48AC-995D-34EAF350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517951-7AF2-46FF-89D8-445E2D6F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EDBBD0-D97D-4328-8684-3F3F6AA5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06DD0-6C5D-4FC6-A4DD-524E8F57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601C2A-0568-4F2D-B96B-97A63770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2F85D9-A460-4BFE-A4C6-4D7CCA06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AB1B2C-11CE-4501-90FB-2E036636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FF3220-A683-4850-A4C6-AE0688CA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567DB8-BE07-4B74-8A2F-3368795D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2B3794-967B-4F07-9AD6-E464DF59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439A45-C7BD-4ADD-9444-1884097D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0249C5-5DB1-4B77-9D68-259DB70D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AE80C6-ECC4-474F-B72D-51381E1F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546943-F983-4207-BE56-F3DA0875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7DF9-62F8-41BD-A67B-3FDDD0CB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3CF3D5-EEA1-4FF8-9CBA-00045290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D96F9B-D3F4-4159-B360-ACF80359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5EB21B-9CD8-4175-BC53-3980BDBF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72EB63-CD89-4921-A264-5DC646DB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D8BF8F-ED3C-499D-B591-392E0409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412CBE-1398-4DB6-8ADB-06356629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DA6D23-4460-4909-8D21-0727EA77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0867E8-C012-4752-A873-74CE470A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B79D55-6B4F-42E7-8175-97113E16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349E61-B8FB-4967-A5D7-C10D1CA2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9744-7536-4136-AC52-9CA79C6F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87A0C5-B574-4CE7-B8B4-8A82C4CC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20ED77-CD67-4F32-AE17-CE7216F0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E5AB79-C602-4DDD-AB80-EA1FDAA4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FCFC1C-A364-497E-90FC-632B82B6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4F830F-CD4F-4099-B4A1-C0B5C291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531F98-8165-40D0-BFE5-6EAAAB76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D30BE6-3B2B-4F60-8BE7-88017D3B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2C8AD2-1C58-421A-9638-6DD92CCD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72275A-4474-4C1C-9565-2A2426F2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0DCA0-62C7-46FB-B24D-DA659696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2B3-DEEC-4056-8AF5-A1B13C3B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5921A-C610-4442-84DE-67521140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65FCC-C15A-4105-9EF3-DA164BE5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369F0-41C4-4F53-ABE8-0770E121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3E459-994D-41FF-ADFE-5D83D9E4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9B71-5433-425E-BBDE-CF2FEA2C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F36A8-08EE-4825-AB9C-588783A8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3B997-7579-4A20-ABE3-39E2FA7F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12D18-E28E-4738-B633-668AF775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8FCB0-4F77-4AB1-9B39-64106A5B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4124B-9CF1-40E2-B9A3-4992EF70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4A1-3C0E-4782-8D37-D0E3CB00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35EF8-5F9C-4A5A-A0EE-CCEB8B32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B578A-A808-48DD-A1EC-807FE63F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FCCD-3B41-4419-8425-61412D12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2C589-A3F3-4A5A-9777-E7B07F1C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AA617-3944-4A8A-AC23-73F998D5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60504-30B7-44DE-963E-E49366F1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C3282-243F-415B-83F8-20A8C126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5F6FB-F202-4BDD-98B6-35C7E2E7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9FEDC-6B01-4796-B082-D8A53EEF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42BA0-8C02-44DA-9392-9225A863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2BD-FE7A-4888-BE64-988D0F70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0C72A-FA28-4BA4-A5FF-7DCBDCD4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EC666-BEF0-4248-98E9-072343C7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F46F2-99A7-4837-B461-74CA98A8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DC9F1-1ADD-4C64-8888-D0DB5B8F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25D30-F70C-4420-9065-A3DA265D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5011F-5A46-4E0C-B11A-526B24DB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D621A-49D2-49E0-8ECA-3D2B93F6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59019-4033-45CC-BA2D-E21DD0D6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C2883-A5DD-4208-8DE9-278B42AF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FFF79-FCB2-4FFE-BC85-780E89C3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73F-6557-407B-B94B-93760E74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48104-4D27-4E2F-997E-21719A2F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860CC-8271-4B4D-9B9E-51BC8935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479B1-3B23-4E5F-8321-ADD45E4D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6C215-194B-4F96-B330-34906D1B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33FDE-426B-48AD-9A81-AFE48716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A9A5B-D43B-44B9-8EB6-8D859422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ACFD8-8B5D-419E-848D-D44149DA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2D4D8-E1A2-4E29-95E9-9F5ACB9D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3C149-7188-4773-9CBB-EB5F14E2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8E787-9912-4DAA-8932-0B825326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C04-3A05-4315-B40F-726190CE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DD048-87EC-4665-B38A-FFF1410E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295F4-B4B6-4C49-B790-3D9F229E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E9DFB-A642-4A4E-A035-AC8F18DA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0361B-6F89-48EA-B60F-691C956C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BB2D4-93B0-434E-977E-06237125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610E4-29ED-4489-ADBD-25AA16E1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BC177-D487-4CBB-8BED-4A470F38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67B7D-22CD-4611-B6BE-2D7A43EC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40826-B8D7-43BC-A7EB-83B87726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B2EE0-344C-4807-9DCF-0867089A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86E-783B-4FD5-8BFD-94020DAC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CAF0D-F858-488E-85A1-97EB5226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9C63C-78D6-4047-A56D-4E52D450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C1862-0792-489C-AD7B-F60814C7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D9A63-73D7-4676-9EF3-2F75189D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75800-1D03-4AF8-8240-08E3B728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7F010-37EC-49EF-ABC0-88D0B813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0C78B-029D-4BE0-95B3-B9BD6FB6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B379F-B512-4CD2-A81F-D3842B78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54F23-BF7E-4BE1-82C1-B10BB27A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29EF7-9140-4F10-A3E7-6055C186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F114-2E1B-422E-954B-B19361E0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36BC2-ADA3-4DE4-A4FD-9D9E5EC6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89E9E-E111-422D-A889-DC76B610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B8DAA-227F-49BB-BB34-D6750447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46CEE-8F9D-40FD-9AE9-E023C10E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38C3B-5056-4CCE-83D0-6E0E4EBA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3E665-4112-4037-84B3-2ED30BEF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9A9D5-C549-46A8-8918-C72D3D11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A27FF-B3B5-453E-B3C0-D7B155D7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65710-1F0B-4667-9AE3-77CD9EAD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C8550-1499-4850-9F93-21C4FECE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F8A2-0236-40F1-8B85-7CB7E738B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3EE0-074D-451F-A574-180E072F37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2" marL="1017000" indent="-20340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3" marL="1424160" indent="-20340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4" marL="1830960" indent="-20340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5" marL="1830960" indent="-20340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6" marL="1830960" indent="-20340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2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FE3B-8715-4F46-A294-4386C56694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ftr" idx="35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C339-500C-40E5-AA45-4EE405C9CE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A005-5B8E-4060-8448-DE6D0D5FE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B0D5-1A37-4BA4-9FDC-0BD9C7DDE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29B3-D285-46E2-966F-9A957E24CC95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71FD-66E1-4DB3-95F1-022E2B3E57DA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CB9E-4607-4E7B-A395-99E00DE70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A49E-EE3D-46E8-9A11-05EF4E48D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D4AA-E002-4CEE-8028-FFAC581F3FD4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8ECB-2FE0-4591-A771-12E6ADDB3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B3AC-5771-4DD1-A80F-2F295EC03B6F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77C6-90A0-4D6D-8F84-AEE7B108BEC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7778-CDE6-415C-8031-0E3DCEE26E3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76DC-6314-4842-93FF-E950DD1E7338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9E5F-5E9E-4158-A4A8-412017182570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82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2240" indent="-2887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3480" indent="-2872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26028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2360" indent="-247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F2A4-F2EB-4785-BA82-D9B72668877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88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ftr" idx="11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DED0-B140-4796-BA83-CB661C09083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EAB3-0C1D-4A0C-B274-3F1D22FD0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7439-81BD-4309-8E59-BD06EC3F5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0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159F-EE13-44C3-B3A9-0A61E3A2A17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ftr" idx="23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239B-FF46-4319-9E81-23823BC1078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53BB-3052-47C1-92EF-D8E9BA8C85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4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6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hunkerdownusa.files.wordpress.com/2009/06/campbells-soup-i-chicken-noodle-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b0AGiq9j_Ak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1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 Bold"/>
              </a:rPr>
              <a:t>Advertising Slogan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 Bold"/>
              </a:rPr>
              <a:t>Write your answers down and KEEP THEM TO YOURSELF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71320" y="685440"/>
            <a:ext cx="800100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4080"/>
                </a:solidFill>
                <a:latin typeface="Chalkboard Bold"/>
              </a:rPr>
              <a:t>“</a:t>
            </a:r>
            <a:r>
              <a:rPr b="0" lang="en-US" sz="8800" spc="-1" strike="noStrike">
                <a:solidFill>
                  <a:srgbClr val="004080"/>
                </a:solidFill>
                <a:latin typeface="Chalkboard Bold"/>
              </a:rPr>
              <a:t>Hungry? Why Wait?”</a:t>
            </a:r>
            <a:br>
              <a:rPr sz="8800"/>
            </a:br>
            <a:r>
              <a:rPr b="0" lang="en-US" sz="8800" spc="-1" strike="noStrike">
                <a:solidFill>
                  <a:srgbClr val="004080"/>
                </a:solidFill>
                <a:latin typeface="Chalkboard Bold"/>
              </a:rPr>
              <a:t>or</a:t>
            </a:r>
            <a:br>
              <a:rPr sz="8800"/>
            </a:br>
            <a:r>
              <a:rPr b="0" lang="en-US" sz="8800" spc="-1" strike="noStrike">
                <a:solidFill>
                  <a:srgbClr val="004080"/>
                </a:solidFill>
                <a:latin typeface="Chalkboard Bold"/>
              </a:rPr>
              <a:t>“Satisfies”</a:t>
            </a:r>
            <a:endParaRPr b="0" lang="en-US" sz="88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5848200"/>
            <a:ext cx="7772400" cy="247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3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71320" y="685440"/>
            <a:ext cx="80010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halkboard Bold"/>
              </a:rPr>
              <a:t>“</a:t>
            </a:r>
            <a:r>
              <a:rPr b="0" lang="en-US" sz="8800" spc="-1" strike="noStrike">
                <a:solidFill>
                  <a:srgbClr val="ffffff"/>
                </a:solidFill>
                <a:latin typeface="Chalkboard Bold"/>
              </a:rPr>
              <a:t>Snap, Crackle, Pop”</a:t>
            </a:r>
            <a:endParaRPr b="0" lang="en-US" sz="8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5848200"/>
            <a:ext cx="7772400" cy="24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3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214920" y="6524640"/>
            <a:ext cx="79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lacesnsoles.com/store2/images/categories/Nike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365040" y="6296040"/>
            <a:ext cx="877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unkerdownusa.files.wordpress.com/2009/06/campbells-soup-i-chicken-noodle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1968-premium-giclee-printc1298561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289440" y="6524640"/>
            <a:ext cx="59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lhmt.com/Q/FrostedFlakes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9480" y="6400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ootballfire.files.wordpress.com/2008/11/playstation-logo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halkboard Bold"/>
                <a:hlinkClick r:id="rId2"/>
              </a:rPr>
              <a:t>"Be Like Mike" Com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48080" y="6067440"/>
            <a:ext cx="86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laytonguiltner.files.wordpress.com/2007/11/gatorade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3200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halkboard Bold"/>
              </a:rPr>
              <a:t>“</a:t>
            </a:r>
            <a:r>
              <a:rPr b="0" lang="en-US" sz="8800" spc="-1" strike="noStrike">
                <a:solidFill>
                  <a:srgbClr val="000000"/>
                </a:solidFill>
                <a:latin typeface="Chalkboard Bold"/>
              </a:rPr>
              <a:t>Just Do It”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5190840"/>
            <a:ext cx="7772400" cy="904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ff"/>
                </a:solidFill>
                <a:latin typeface="Chalkboard Bold"/>
              </a:rPr>
              <a:t>“</a:t>
            </a:r>
            <a:r>
              <a:rPr b="0" i="1" lang="en-US" sz="8800" spc="-1" strike="noStrike">
                <a:solidFill>
                  <a:srgbClr val="ffffff"/>
                </a:solidFill>
                <a:latin typeface="Chalkboard Bold"/>
              </a:rPr>
              <a:t>Mm, Mm Good. Mm, Mm Good.”</a:t>
            </a:r>
            <a:endParaRPr b="0" i="1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3047760" y="5575320"/>
            <a:ext cx="5715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3657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halkboard Bold"/>
              </a:rPr>
              <a:t>“</a:t>
            </a:r>
            <a:r>
              <a:rPr b="0" lang="en-US" sz="8000" spc="-1" strike="noStrike">
                <a:solidFill>
                  <a:srgbClr val="ffffff"/>
                </a:solidFill>
                <a:latin typeface="Chalkboard Bold"/>
              </a:rPr>
              <a:t>They’re GRRRRRRREAT”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5767560"/>
            <a:ext cx="7772400" cy="328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3657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de2c4"/>
                </a:solidFill>
                <a:latin typeface="Chalkboard Bold"/>
              </a:rPr>
              <a:t>“</a:t>
            </a:r>
            <a:r>
              <a:rPr b="0" i="1" lang="en-US" sz="8000" spc="-1" strike="noStrike">
                <a:solidFill>
                  <a:srgbClr val="fde2c4"/>
                </a:solidFill>
                <a:latin typeface="Chalkboard Bold"/>
              </a:rPr>
              <a:t>Live in your world, play in ours.”</a:t>
            </a:r>
            <a:endParaRPr b="0" i="1" lang="en-US" sz="8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5692320"/>
            <a:ext cx="7772400" cy="327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71320" y="6854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alkboard Bold"/>
              </a:rPr>
              <a:t>“</a:t>
            </a:r>
            <a:r>
              <a:rPr b="0" lang="en-US" sz="7200" spc="-1" strike="noStrike">
                <a:solidFill>
                  <a:srgbClr val="000000"/>
                </a:solidFill>
                <a:latin typeface="Chalkboard Bold"/>
              </a:rPr>
              <a:t>Is it in you?”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halkboard Bold"/>
              </a:rPr>
              <a:t>or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halkboard Bold"/>
              </a:rPr>
              <a:t>“Be Like Mike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54370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71320" y="685440"/>
            <a:ext cx="8001000" cy="3809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halkboard Bold"/>
              </a:rPr>
              <a:t>“</a:t>
            </a:r>
            <a:r>
              <a:rPr b="1" lang="en-US" sz="8800" spc="-1" strike="noStrike">
                <a:solidFill>
                  <a:srgbClr val="000000"/>
                </a:solidFill>
                <a:latin typeface="Chalkboard Bold"/>
              </a:rPr>
              <a:t>I’m Lovin’ It”</a:t>
            </a:r>
            <a:endParaRPr b="1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5684760"/>
            <a:ext cx="7772400" cy="411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43a1b"/>
                </a:solidFill>
                <a:latin typeface="Chalkboard Bold"/>
              </a:rPr>
              <a:t>“</a:t>
            </a:r>
            <a:r>
              <a:rPr b="0" lang="en-US" sz="8800" spc="-1" strike="noStrike">
                <a:solidFill>
                  <a:srgbClr val="343a1b"/>
                </a:solidFill>
                <a:latin typeface="Chalkboard Bold"/>
              </a:rPr>
              <a:t>Maybe she’s born with it, maybe it’s______”</a:t>
            </a:r>
            <a:endParaRPr b="0" lang="en-US" sz="88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71320" y="5790960"/>
            <a:ext cx="8001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71320" y="685440"/>
            <a:ext cx="80010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66"/>
                </a:solidFill>
                <a:latin typeface="Chalkboard Bold"/>
              </a:rPr>
              <a:t>“</a:t>
            </a:r>
            <a:r>
              <a:rPr b="1" lang="en-US" sz="8800" spc="-1" strike="noStrike">
                <a:solidFill>
                  <a:srgbClr val="ffff66"/>
                </a:solidFill>
                <a:latin typeface="Chalkboard Bold"/>
              </a:rPr>
              <a:t>They’re magically delicious”</a:t>
            </a:r>
            <a:endParaRPr b="1" lang="en-US" sz="88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85800" y="5767560"/>
            <a:ext cx="7772400" cy="32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4:20:04Z</dcterms:created>
  <dc:creator>Tech Services</dc:creator>
  <dc:description/>
  <dc:language>en-US</dc:language>
  <cp:lastModifiedBy>Tech Services</cp:lastModifiedBy>
  <dcterms:modified xsi:type="dcterms:W3CDTF">2010-01-13T17:22:53Z</dcterms:modified>
  <cp:revision>10</cp:revision>
  <dc:subject/>
  <dc:title>Advertising Slogan Quiz</dc:title>
</cp:coreProperties>
</file>